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13.jpeg" ContentType="image/jpeg"/>
  <Override PartName="/ppt/media/image8.jpeg" ContentType="image/jpeg"/>
  <Override PartName="/ppt/media/image7.png" ContentType="image/png"/>
  <Override PartName="/ppt/media/image1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4.jpeg" ContentType="image/jpeg"/>
  <Override PartName="/ppt/media/image2.png" ContentType="image/png"/>
  <Override PartName="/ppt/media/image11.jpeg" ContentType="image/jpeg"/>
  <Override PartName="/ppt/media/image9.jpeg" ContentType="image/jpeg"/>
  <Override PartName="/ppt/media/image3.png" ContentType="image/png"/>
  <Override PartName="/ppt/media/image5.jpeg" ContentType="image/jpeg"/>
  <Override PartName="/ppt/media/image10.png" ContentType="image/pn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92001-CE81-466F-8968-CE6CD2A949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FE087-873E-4E6F-BDDF-04110784E2A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 of politics:  legislation, diplomacy/treaties, voting, campaig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D889F-8D1C-42B0-9A0D-532B8EF6F07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election in Iraq, following start of war; slant drilling as example of violating sovereignty (cause of first Gulf War); MN smoking ban, when first passed wasn’t for whole state, causing disputes among municipalities (law having geographic component to i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84296-3A95-4B6E-AFB5-50B323A1136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p on left shows all the nations of Africa, which colonial powers ignored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flicts ever si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5511B5-4871-4672-91DF-8C87BC0BC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B4CD22-C79A-42E8-A51A-41C434FBD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80641E-6589-4979-AC23-812477A0A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04ABBB-5855-45F5-85C7-B25D5875A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98B74-EF09-43B6-93F3-0A43BF3DC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CF373-4686-42B0-853F-92785FA4A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9AF0B-F82C-479A-8158-0E7A401EF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A85C6-0A8A-4915-89F2-89FD109CC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D1154-25EA-432A-9890-9FD9D677C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5855F-6755-48AB-BCA5-3CAF7E34E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C0C0D-D628-496D-924C-52F149B43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F0A51B-DA46-4F8C-9074-609A1796F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3224B-95AA-4587-B61F-D1277F434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037AD-BA6E-4247-8F6D-FAC39565F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2AF24-C295-4ADA-A8F8-3B3875008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1A41C-1299-47C0-A8AF-01C033F3A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53ADD-5C8C-4B97-934F-55F2560E0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3E4E86-ED6D-4648-B9B9-0014D5596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9C204D-DD4E-425C-A58A-F949A9292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2CFE0D-C7AA-4DD3-A050-AC8FB28A1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2F173A-BC6A-4834-98C8-16195000C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740566-80AD-4B68-AC5C-D64C9FC2D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248934-1853-42EB-B0D3-4EF3D09A1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C8C9F5-8C03-48B5-B701-81012ACE3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A018B-BB37-470B-9638-157F0B640C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BC60D-D1BB-4BEB-B6B8-1DC4212F1A4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olitical Geograph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hat is political geography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study of the interaction between political processes and the distributions of all other activities and transformations of the landscape.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olitics Across Spa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ot everyone shares the same political values; these values can vary geographically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ne political belief is shared in almost all places: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Territory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is very important.  Why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10" descr="house%20legislature"/>
          <p:cNvPicPr/>
          <p:nvPr/>
        </p:nvPicPr>
        <p:blipFill>
          <a:blip r:embed="rId1"/>
          <a:stretch/>
        </p:blipFill>
        <p:spPr>
          <a:xfrm>
            <a:off x="457200" y="685800"/>
            <a:ext cx="3886200" cy="29145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2" descr="bill-arafat-rabin-treaty"/>
          <p:cNvPicPr/>
          <p:nvPr/>
        </p:nvPicPr>
        <p:blipFill>
          <a:blip r:embed="rId2"/>
          <a:stretch/>
        </p:blipFill>
        <p:spPr>
          <a:xfrm>
            <a:off x="4648320" y="685800"/>
            <a:ext cx="4114800" cy="29066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4" descr="mapcolors"/>
          <p:cNvPicPr/>
          <p:nvPr/>
        </p:nvPicPr>
        <p:blipFill>
          <a:blip r:embed="rId3"/>
          <a:stretch/>
        </p:blipFill>
        <p:spPr>
          <a:xfrm>
            <a:off x="457200" y="3733920"/>
            <a:ext cx="3886200" cy="24271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7" descr="http://chumaspiritmagazine.typepad.com/barak_obama.jpg"/>
          <p:cNvPicPr/>
          <p:nvPr/>
        </p:nvPicPr>
        <p:blipFill>
          <a:blip r:embed="rId4"/>
          <a:stretch/>
        </p:blipFill>
        <p:spPr>
          <a:xfrm>
            <a:off x="4495680" y="3657600"/>
            <a:ext cx="2438640" cy="25146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9" descr="http://www.pastemagazine.com/blogs/ctrl-v/2008/08/29/bg/who-is-john-mccain.jpg"/>
          <p:cNvPicPr/>
          <p:nvPr/>
        </p:nvPicPr>
        <p:blipFill>
          <a:blip r:embed="rId5"/>
          <a:stretch/>
        </p:blipFill>
        <p:spPr>
          <a:xfrm>
            <a:off x="6781680" y="3657600"/>
            <a:ext cx="218124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olitical Geograph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olitical geography focuses less on the “How?  Who?  When?” of politics and more on how politics affects where people do things (human behaviors) and how places affect politic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17" descr="Voting"/>
          <p:cNvPicPr/>
          <p:nvPr/>
        </p:nvPicPr>
        <p:blipFill>
          <a:blip r:embed="rId1"/>
          <a:stretch/>
        </p:blipFill>
        <p:spPr>
          <a:xfrm>
            <a:off x="380880" y="533520"/>
            <a:ext cx="3810240" cy="28573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9" descr="minnesota-county-map"/>
          <p:cNvPicPr/>
          <p:nvPr/>
        </p:nvPicPr>
        <p:blipFill>
          <a:blip r:embed="rId2"/>
          <a:stretch/>
        </p:blipFill>
        <p:spPr>
          <a:xfrm>
            <a:off x="4648320" y="1143000"/>
            <a:ext cx="3948120" cy="43768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21" descr="smokefree"/>
          <p:cNvPicPr/>
          <p:nvPr/>
        </p:nvPicPr>
        <p:blipFill>
          <a:blip r:embed="rId3"/>
          <a:stretch/>
        </p:blipFill>
        <p:spPr>
          <a:xfrm>
            <a:off x="7086600" y="3505320"/>
            <a:ext cx="1676520" cy="12571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23" descr="drilltypes"/>
          <p:cNvPicPr/>
          <p:nvPr/>
        </p:nvPicPr>
        <p:blipFill>
          <a:blip r:embed="rId4"/>
          <a:stretch/>
        </p:blipFill>
        <p:spPr>
          <a:xfrm>
            <a:off x="380880" y="3581280"/>
            <a:ext cx="3810240" cy="25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olitical Geography:  Scal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olitics is done at all scales, so political geography studies all scal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cal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Example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te/Provincial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Exampl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National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Example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nternational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Example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Political Geography:</a:t>
            </a:r>
            <a:br>
              <a:rPr sz="4000"/>
            </a:b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What We Can Learn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olitical Geography helps us understand much of what happens in the world, in the past and today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68520" indent="-2570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How countries are formed, organized, and func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68520" indent="-2570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How countries deal with divisive forc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4" name="Picture 5" descr="israel_map"/>
          <p:cNvPicPr/>
          <p:nvPr/>
        </p:nvPicPr>
        <p:blipFill>
          <a:blip r:embed="rId1"/>
          <a:stretch/>
        </p:blipFill>
        <p:spPr>
          <a:xfrm>
            <a:off x="609480" y="4343400"/>
            <a:ext cx="2610000" cy="20574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7" descr="state2"/>
          <p:cNvPicPr/>
          <p:nvPr/>
        </p:nvPicPr>
        <p:blipFill>
          <a:blip r:embed="rId2"/>
          <a:stretch/>
        </p:blipFill>
        <p:spPr>
          <a:xfrm>
            <a:off x="3276720" y="4343400"/>
            <a:ext cx="3000240" cy="20574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9" descr="hero"/>
          <p:cNvPicPr/>
          <p:nvPr/>
        </p:nvPicPr>
        <p:blipFill>
          <a:blip r:embed="rId3"/>
          <a:stretch/>
        </p:blipFill>
        <p:spPr>
          <a:xfrm>
            <a:off x="6324480" y="4343400"/>
            <a:ext cx="251460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Political Geography:</a:t>
            </a:r>
            <a:br>
              <a:rPr sz="4000"/>
            </a:b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What We Can Learn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role of boundaries, why they change, effects of changing boundari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9" name="Picture 5" descr="germany"/>
          <p:cNvPicPr/>
          <p:nvPr/>
        </p:nvPicPr>
        <p:blipFill>
          <a:blip r:embed="rId1"/>
          <a:stretch/>
        </p:blipFill>
        <p:spPr>
          <a:xfrm>
            <a:off x="6095880" y="3276720"/>
            <a:ext cx="2708280" cy="32004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9" descr="BGateWallFall"/>
          <p:cNvPicPr/>
          <p:nvPr/>
        </p:nvPicPr>
        <p:blipFill>
          <a:blip r:embed="rId2"/>
          <a:stretch/>
        </p:blipFill>
        <p:spPr>
          <a:xfrm>
            <a:off x="3048120" y="4343400"/>
            <a:ext cx="2971800" cy="20988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8" descr="http://www.cnn.com/WORLD/9708/25/berlin.wall.deaths/germany.map.jpg"/>
          <p:cNvPicPr/>
          <p:nvPr/>
        </p:nvPicPr>
        <p:blipFill>
          <a:blip r:embed="rId3"/>
          <a:stretch/>
        </p:blipFill>
        <p:spPr>
          <a:xfrm>
            <a:off x="228600" y="3276720"/>
            <a:ext cx="2725560" cy="32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Political Geography:</a:t>
            </a:r>
            <a:br>
              <a:rPr sz="4000"/>
            </a:b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What We Can Learn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ffects of colonialism and imperialism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4" name="Picture 5" descr="A010"/>
          <p:cNvPicPr/>
          <p:nvPr/>
        </p:nvPicPr>
        <p:blipFill>
          <a:blip r:embed="rId1"/>
          <a:stretch/>
        </p:blipFill>
        <p:spPr>
          <a:xfrm>
            <a:off x="685800" y="2133720"/>
            <a:ext cx="3851280" cy="43434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7" descr="africa"/>
          <p:cNvPicPr/>
          <p:nvPr/>
        </p:nvPicPr>
        <p:blipFill>
          <a:blip r:embed="rId2"/>
          <a:stretch/>
        </p:blipFill>
        <p:spPr>
          <a:xfrm>
            <a:off x="4648320" y="2133720"/>
            <a:ext cx="4233600" cy="43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Political Geography:</a:t>
            </a:r>
            <a:br>
              <a:rPr sz="4000"/>
            </a:b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What We Can Learn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hat international organizations, such as the United Nations, can and cannot do to help create peace and help people in nee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8" name="Picture 5" descr="unicef-05-0004-big"/>
          <p:cNvPicPr/>
          <p:nvPr/>
        </p:nvPicPr>
        <p:blipFill>
          <a:blip r:embed="rId1"/>
          <a:stretch/>
        </p:blipFill>
        <p:spPr>
          <a:xfrm>
            <a:off x="762120" y="3276720"/>
            <a:ext cx="3886200" cy="26557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7" descr="Rwanda: génocide des Tutsis par les Hutus"/>
          <p:cNvPicPr/>
          <p:nvPr/>
        </p:nvPicPr>
        <p:blipFill>
          <a:blip r:embed="rId2"/>
          <a:stretch/>
        </p:blipFill>
        <p:spPr>
          <a:xfrm>
            <a:off x="4800600" y="3276720"/>
            <a:ext cx="4038480" cy="267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3T20:02:40Z</dcterms:created>
  <dc:creator>sforsland</dc:creator>
  <dc:description/>
  <dc:language>en-US</dc:language>
  <cp:lastModifiedBy>hberndt</cp:lastModifiedBy>
  <dcterms:modified xsi:type="dcterms:W3CDTF">2010-04-05T12:00:04Z</dcterms:modified>
  <cp:revision>12</cp:revision>
  <dc:subject/>
  <dc:title>Political Geography</dc:title>
</cp:coreProperties>
</file>